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9CB-4B91-45DD-A164-B3E3FFB2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1DE-B91F-4B3B-A729-D6042F6B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542-912E-4AAE-A3BF-51E4F921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CDD-ADBE-40D5-82FA-133B0D03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0E7-12AC-4B29-BC6E-500F9AC6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480-D248-44A4-9706-F08A48F6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8C6-6A8B-40EF-BF53-2F1450F6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BB9A-9C2C-48E5-AF4A-B13D2EC5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D611-3C74-4299-8E48-70EBE13A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5CB-F3D4-4A95-B7D6-934A7F72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0D3-A6AE-41AA-AF40-B0A3854E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9DA-0577-4270-A82D-D41C3157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718A-AB07-43BD-BAA1-CD64513B6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o0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o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o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o1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o1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o1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o0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o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o0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05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o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o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o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o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14:59:05Z</dcterms:created>
  <dc:creator>fabio.medessi</dc:creator>
  <dc:description/>
  <dc:language>en-US</dc:language>
  <cp:lastModifiedBy>fabio.medessi</cp:lastModifiedBy>
  <dcterms:modified xsi:type="dcterms:W3CDTF">2010-07-19T15:04:39Z</dcterms:modified>
  <cp:revision>2</cp:revision>
  <dc:subject/>
  <dc:title>Presentazione di PowerPoint</dc:title>
</cp:coreProperties>
</file>